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1.jpeg" ContentType="image/jpeg"/>
  <Override PartName="/ppt/media/image9.png" ContentType="image/png"/>
  <Override PartName="/ppt/media/image12.gif" ContentType="image/gif"/>
  <Override PartName="/ppt/media/image24.jpeg" ContentType="image/jpeg"/>
  <Override PartName="/ppt/media/image7.gif" ContentType="image/gif"/>
  <Override PartName="/ppt/media/image5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move the slide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0A87-F9C4-415E-A7E5-F6D8D0409E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165F-6F28-4361-A70D-5C2DEE6BFB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E46-D568-4AAC-8E7B-F8B0682E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14D-EF10-4B3E-9381-43E8D09A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AFF-D8BE-42B6-8ED1-EFFFF27D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0DE-BACE-4336-962B-46D626B2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2746-B079-451A-BA61-CACD6965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3CE6-D255-4B39-980D-D0E19AFE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1ED4-0F5B-46AC-A9D1-EA075B29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BCE3-7598-4F16-9B72-A45513BE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CFC8-7257-482F-B736-23A01E8C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97EA-EBD3-48E4-9325-FED6CF48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B2EB-6122-4C21-AE42-3629DC91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280-EA70-43DA-8106-4482406B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A360-17C1-4D2B-95D3-E0DB5E84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73A7-5A3A-45C3-A83C-CB8C8519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1808-493D-4184-9035-9B2C20FE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A5A9-A39D-41D6-B0AB-073C77AB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2394-4243-4728-9BAA-8EC21728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9A95-9BB8-41E5-9D1F-02CE5B1C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0D0-26EE-4487-AE98-2812C535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E25-6B42-44B0-B559-DD955DB2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A66-E6AC-4EA2-A39B-B4A9AD5B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6D4-D20B-496B-B2DE-5A628F9A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5D0-722B-4E19-8A6E-B37752CE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D9A-773F-4C54-B51E-A25AB57A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7"/>
          <p:cNvGrpSpPr/>
          <p:nvPr/>
        </p:nvGrpSpPr>
        <p:grpSpPr>
          <a:xfrm>
            <a:off x="-25560" y="-56880"/>
            <a:ext cx="9163080" cy="7189920"/>
            <a:chOff x="-25560" y="-56880"/>
            <a:chExt cx="9163080" cy="7189920"/>
          </a:xfrm>
        </p:grpSpPr>
        <p:grpSp>
          <p:nvGrpSpPr>
            <p:cNvPr id="1" name="Group 98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2" name="Group 99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3" name="Freeform 100"/>
                <p:cNvSpPr/>
                <p:nvPr/>
              </p:nvSpPr>
              <p:spPr>
                <a:xfrm>
                  <a:off x="290808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" name="Freeform 101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" name="Group 102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6" name="Freeform 103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" name="Freeform 104"/>
                <p:cNvSpPr/>
                <p:nvPr/>
              </p:nvSpPr>
              <p:spPr>
                <a:xfrm flipV="1">
                  <a:off x="8694000" y="3960"/>
                  <a:ext cx="11484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Group 105"/>
              <p:cNvGrpSpPr/>
              <p:nvPr/>
            </p:nvGrpSpPr>
            <p:grpSpPr>
              <a:xfrm>
                <a:off x="1790640" y="6120"/>
                <a:ext cx="611280" cy="6849720"/>
                <a:chOff x="1790640" y="6120"/>
                <a:chExt cx="611280" cy="6849720"/>
              </a:xfrm>
            </p:grpSpPr>
            <p:sp>
              <p:nvSpPr>
                <p:cNvPr id="9" name="Freeform 106"/>
                <p:cNvSpPr/>
                <p:nvPr/>
              </p:nvSpPr>
              <p:spPr>
                <a:xfrm>
                  <a:off x="1816200" y="6120"/>
                  <a:ext cx="585720" cy="41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0" name="Freeform 107"/>
                <p:cNvSpPr/>
                <p:nvPr/>
              </p:nvSpPr>
              <p:spPr>
                <a:xfrm>
                  <a:off x="1960560" y="3461400"/>
                  <a:ext cx="398520" cy="61812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08"/>
                <p:cNvSpPr/>
                <p:nvPr/>
              </p:nvSpPr>
              <p:spPr>
                <a:xfrm>
                  <a:off x="1790640" y="4130640"/>
                  <a:ext cx="600120" cy="272520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09"/>
                <p:cNvSpPr/>
                <p:nvPr/>
              </p:nvSpPr>
              <p:spPr>
                <a:xfrm>
                  <a:off x="1989000" y="4208760"/>
                  <a:ext cx="231840" cy="2466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10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" name="Freeform 111"/>
                <p:cNvSpPr/>
                <p:nvPr/>
              </p:nvSpPr>
              <p:spPr>
                <a:xfrm>
                  <a:off x="677880" y="4680"/>
                  <a:ext cx="6397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12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" name="Group 113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7" name="Freeform 114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8" name="Freeform 115"/>
                <p:cNvSpPr/>
                <p:nvPr/>
              </p:nvSpPr>
              <p:spPr>
                <a:xfrm flipV="1">
                  <a:off x="4872960" y="-360"/>
                  <a:ext cx="14148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" name="Freeform 116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" name="Freeform 117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" name="Freeform 118"/>
              <p:cNvSpPr/>
              <p:nvPr/>
            </p:nvSpPr>
            <p:spPr>
              <a:xfrm>
                <a:off x="5057640" y="3900240"/>
                <a:ext cx="1552680" cy="527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" name="Freeform 119"/>
              <p:cNvSpPr/>
              <p:nvPr/>
            </p:nvSpPr>
            <p:spPr>
              <a:xfrm rot="20854800">
                <a:off x="5227560" y="4335120"/>
                <a:ext cx="1120680" cy="1609560"/>
              </a:xfrm>
              <a:prstGeom prst="pie">
                <a:avLst/>
              </a:pr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" name="Freeform 120"/>
              <p:cNvSpPr/>
              <p:nvPr/>
            </p:nvSpPr>
            <p:spPr>
              <a:xfrm>
                <a:off x="4748040" y="4713120"/>
                <a:ext cx="752760" cy="18478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4" name="Group 121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25" name="Freeform 122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123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124"/>
                <p:cNvSpPr/>
                <p:nvPr/>
              </p:nvSpPr>
              <p:spPr>
                <a:xfrm>
                  <a:off x="5020920" y="4680"/>
                  <a:ext cx="1552320" cy="52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125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126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" name="Group 127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31" name="Freeform 128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129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130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131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132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Group 133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37" name="Freeform 134"/>
                <p:cNvSpPr/>
                <p:nvPr/>
              </p:nvSpPr>
              <p:spPr>
                <a:xfrm>
                  <a:off x="7419960" y="4680"/>
                  <a:ext cx="585720" cy="4145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135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136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137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138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42" name="Freeform 139"/>
                <p:cNvSpPr/>
                <p:nvPr/>
              </p:nvSpPr>
              <p:spPr>
                <a:xfrm>
                  <a:off x="5553000" y="15480"/>
                  <a:ext cx="660240" cy="683568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140"/>
                <p:cNvSpPr/>
                <p:nvPr/>
              </p:nvSpPr>
              <p:spPr>
                <a:xfrm>
                  <a:off x="6040080" y="4680"/>
                  <a:ext cx="297000" cy="6838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141"/>
              <p:cNvGrpSpPr/>
              <p:nvPr/>
            </p:nvGrpSpPr>
            <p:grpSpPr>
              <a:xfrm>
                <a:off x="4651560" y="1806480"/>
                <a:ext cx="3004560" cy="2403000"/>
                <a:chOff x="4651560" y="1806480"/>
                <a:chExt cx="3004560" cy="2403000"/>
              </a:xfrm>
            </p:grpSpPr>
            <p:sp>
              <p:nvSpPr>
                <p:cNvPr id="45" name="Freeform 142"/>
                <p:cNvSpPr/>
                <p:nvPr/>
              </p:nvSpPr>
              <p:spPr>
                <a:xfrm flipH="1" rot="21429000">
                  <a:off x="4691880" y="2240640"/>
                  <a:ext cx="115740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143"/>
                <p:cNvSpPr/>
                <p:nvPr/>
              </p:nvSpPr>
              <p:spPr>
                <a:xfrm rot="20854800">
                  <a:off x="6333120" y="1911240"/>
                  <a:ext cx="115740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144"/>
                <p:cNvSpPr/>
                <p:nvPr/>
              </p:nvSpPr>
              <p:spPr>
                <a:xfrm>
                  <a:off x="5838480" y="2301120"/>
                  <a:ext cx="775440" cy="19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145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" name="Freeform 146"/>
              <p:cNvSpPr/>
              <p:nvPr/>
            </p:nvSpPr>
            <p:spPr>
              <a:xfrm>
                <a:off x="8793000" y="915840"/>
                <a:ext cx="343080" cy="579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" name="Freeform 147"/>
              <p:cNvSpPr/>
              <p:nvPr/>
            </p:nvSpPr>
            <p:spPr>
              <a:xfrm>
                <a:off x="8526240" y="1093680"/>
                <a:ext cx="530280" cy="13003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51" name="Group 148"/>
              <p:cNvGrpSpPr/>
              <p:nvPr/>
            </p:nvGrpSpPr>
            <p:grpSpPr>
              <a:xfrm>
                <a:off x="6884280" y="4246560"/>
                <a:ext cx="2043000" cy="1635120"/>
                <a:chOff x="6884280" y="4246560"/>
                <a:chExt cx="2043000" cy="1635120"/>
              </a:xfrm>
            </p:grpSpPr>
            <p:sp>
              <p:nvSpPr>
                <p:cNvPr id="52" name="Freeform 149"/>
                <p:cNvSpPr/>
                <p:nvPr/>
              </p:nvSpPr>
              <p:spPr>
                <a:xfrm flipH="1" rot="21429000">
                  <a:off x="6912000" y="4541760"/>
                  <a:ext cx="786960" cy="113220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150"/>
                <p:cNvSpPr/>
                <p:nvPr/>
              </p:nvSpPr>
              <p:spPr>
                <a:xfrm rot="20854800">
                  <a:off x="8027640" y="4317840"/>
                  <a:ext cx="786960" cy="1130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151"/>
                <p:cNvSpPr/>
                <p:nvPr/>
              </p:nvSpPr>
              <p:spPr>
                <a:xfrm>
                  <a:off x="7691040" y="4583160"/>
                  <a:ext cx="528480" cy="12985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52"/>
              <p:cNvGrpSpPr/>
              <p:nvPr/>
            </p:nvGrpSpPr>
            <p:grpSpPr>
              <a:xfrm>
                <a:off x="2324520" y="5473800"/>
                <a:ext cx="1586880" cy="1269720"/>
                <a:chOff x="2324520" y="5473800"/>
                <a:chExt cx="1586880" cy="1269720"/>
              </a:xfrm>
            </p:grpSpPr>
            <p:sp>
              <p:nvSpPr>
                <p:cNvPr id="56" name="Freeform 153"/>
                <p:cNvSpPr/>
                <p:nvPr/>
              </p:nvSpPr>
              <p:spPr>
                <a:xfrm flipH="1" rot="21429000">
                  <a:off x="2345400" y="5703480"/>
                  <a:ext cx="611280" cy="8773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54"/>
                <p:cNvSpPr/>
                <p:nvPr/>
              </p:nvSpPr>
              <p:spPr>
                <a:xfrm rot="20854800">
                  <a:off x="3213000" y="5528880"/>
                  <a:ext cx="611280" cy="8773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155"/>
                <p:cNvSpPr/>
                <p:nvPr/>
              </p:nvSpPr>
              <p:spPr>
                <a:xfrm>
                  <a:off x="2951280" y="5735160"/>
                  <a:ext cx="411120" cy="10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Freeform 156"/>
              <p:cNvSpPr/>
              <p:nvPr/>
            </p:nvSpPr>
            <p:spPr>
              <a:xfrm rot="20854800">
                <a:off x="1295280" y="499104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" name="Freeform 157"/>
              <p:cNvSpPr/>
              <p:nvPr/>
            </p:nvSpPr>
            <p:spPr>
              <a:xfrm>
                <a:off x="955440" y="5325840"/>
                <a:ext cx="56052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" name="Freeform 158"/>
              <p:cNvSpPr/>
              <p:nvPr/>
            </p:nvSpPr>
            <p:spPr>
              <a:xfrm>
                <a:off x="1141200" y="4684680"/>
                <a:ext cx="1157400" cy="39348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" name="Freeform 159"/>
              <p:cNvSpPr/>
              <p:nvPr/>
            </p:nvSpPr>
            <p:spPr>
              <a:xfrm>
                <a:off x="-3240" y="5208480"/>
                <a:ext cx="852480" cy="98280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3" name="Freeform 160"/>
              <p:cNvSpPr/>
              <p:nvPr/>
            </p:nvSpPr>
            <p:spPr>
              <a:xfrm>
                <a:off x="-3240" y="4867200"/>
                <a:ext cx="803160" cy="384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4" name="Freeform 161"/>
              <p:cNvSpPr/>
              <p:nvPr/>
            </p:nvSpPr>
            <p:spPr>
              <a:xfrm rot="20854800">
                <a:off x="1284120" y="3960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5" name="Freeform 162"/>
              <p:cNvSpPr/>
              <p:nvPr/>
            </p:nvSpPr>
            <p:spPr>
              <a:xfrm>
                <a:off x="944640" y="374400"/>
                <a:ext cx="56016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6" name="Freeform 163"/>
              <p:cNvSpPr/>
              <p:nvPr/>
            </p:nvSpPr>
            <p:spPr>
              <a:xfrm>
                <a:off x="1055520" y="4680"/>
                <a:ext cx="1397160" cy="120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7" name="Freeform 164"/>
              <p:cNvSpPr/>
              <p:nvPr/>
            </p:nvSpPr>
            <p:spPr>
              <a:xfrm>
                <a:off x="-25560" y="260280"/>
                <a:ext cx="863640" cy="100656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8" name="Freeform 165"/>
              <p:cNvSpPr/>
              <p:nvPr/>
            </p:nvSpPr>
            <p:spPr>
              <a:xfrm>
                <a:off x="-3240" y="4680"/>
                <a:ext cx="792000" cy="295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69" name="Group 166"/>
              <p:cNvGrpSpPr/>
              <p:nvPr/>
            </p:nvGrpSpPr>
            <p:grpSpPr>
              <a:xfrm>
                <a:off x="2335680" y="3870360"/>
                <a:ext cx="1586880" cy="1269720"/>
                <a:chOff x="2335680" y="3870360"/>
                <a:chExt cx="1586880" cy="1269720"/>
              </a:xfrm>
            </p:grpSpPr>
            <p:sp>
              <p:nvSpPr>
                <p:cNvPr id="70" name="Freeform 167"/>
                <p:cNvSpPr/>
                <p:nvPr/>
              </p:nvSpPr>
              <p:spPr>
                <a:xfrm flipH="1" rot="21429000">
                  <a:off x="2356560" y="4100040"/>
                  <a:ext cx="611280" cy="8773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168"/>
                <p:cNvSpPr/>
                <p:nvPr/>
              </p:nvSpPr>
              <p:spPr>
                <a:xfrm rot="20854800">
                  <a:off x="3224160" y="3925440"/>
                  <a:ext cx="611280" cy="8773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69"/>
                <p:cNvSpPr/>
                <p:nvPr/>
              </p:nvSpPr>
              <p:spPr>
                <a:xfrm>
                  <a:off x="2962440" y="4131720"/>
                  <a:ext cx="411120" cy="10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170"/>
              <p:cNvGrpSpPr/>
              <p:nvPr/>
            </p:nvGrpSpPr>
            <p:grpSpPr>
              <a:xfrm>
                <a:off x="2359440" y="93600"/>
                <a:ext cx="1587240" cy="1269720"/>
                <a:chOff x="2359440" y="93600"/>
                <a:chExt cx="1587240" cy="1269720"/>
              </a:xfrm>
            </p:grpSpPr>
            <p:sp>
              <p:nvSpPr>
                <p:cNvPr id="74" name="Freeform 171"/>
                <p:cNvSpPr/>
                <p:nvPr/>
              </p:nvSpPr>
              <p:spPr>
                <a:xfrm flipH="1" rot="21429000">
                  <a:off x="2380320" y="323280"/>
                  <a:ext cx="611280" cy="87768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172"/>
                <p:cNvSpPr/>
                <p:nvPr/>
              </p:nvSpPr>
              <p:spPr>
                <a:xfrm rot="20854800">
                  <a:off x="3247920" y="148680"/>
                  <a:ext cx="611280" cy="87768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173"/>
                <p:cNvSpPr/>
                <p:nvPr/>
              </p:nvSpPr>
              <p:spPr>
                <a:xfrm>
                  <a:off x="2986200" y="354960"/>
                  <a:ext cx="411120" cy="10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Freeform 174"/>
              <p:cNvSpPr/>
              <p:nvPr/>
            </p:nvSpPr>
            <p:spPr>
              <a:xfrm>
                <a:off x="4755960" y="5686200"/>
                <a:ext cx="1076400" cy="11718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" name="Freeform 175"/>
              <p:cNvSpPr/>
              <p:nvPr/>
            </p:nvSpPr>
            <p:spPr>
              <a:xfrm rot="20854800">
                <a:off x="6339960" y="5365800"/>
                <a:ext cx="1157400" cy="1662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9" name="Freeform 176"/>
              <p:cNvSpPr/>
              <p:nvPr/>
            </p:nvSpPr>
            <p:spPr>
              <a:xfrm>
                <a:off x="5846760" y="5756040"/>
                <a:ext cx="749160" cy="11527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80" name="Group 177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81" name="Freeform 178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179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180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181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182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183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87" name="Freeform 184"/>
                <p:cNvSpPr/>
                <p:nvPr/>
              </p:nvSpPr>
              <p:spPr>
                <a:xfrm>
                  <a:off x="23652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185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" name="Rectangle 186"/>
            <p:cNvSpPr/>
            <p:nvPr/>
          </p:nvSpPr>
          <p:spPr>
            <a:xfrm>
              <a:off x="1174680" y="3430440"/>
              <a:ext cx="7962840" cy="7776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D448-B901-493C-B56F-2497859A5B7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7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132" name="Group 8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33" name="Group 9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34" name="Freeform 10"/>
                <p:cNvSpPr/>
                <p:nvPr/>
              </p:nvSpPr>
              <p:spPr>
                <a:xfrm>
                  <a:off x="290808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11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12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37" name="Freeform 13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14"/>
                <p:cNvSpPr/>
                <p:nvPr/>
              </p:nvSpPr>
              <p:spPr>
                <a:xfrm flipV="1">
                  <a:off x="8694000" y="3960"/>
                  <a:ext cx="11484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15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140" name="Freeform 16"/>
                <p:cNvSpPr/>
                <p:nvPr/>
              </p:nvSpPr>
              <p:spPr>
                <a:xfrm>
                  <a:off x="1816200" y="6120"/>
                  <a:ext cx="585720" cy="415080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17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18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19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20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5" name="Freeform 21"/>
                <p:cNvSpPr/>
                <p:nvPr/>
              </p:nvSpPr>
              <p:spPr>
                <a:xfrm>
                  <a:off x="677880" y="4680"/>
                  <a:ext cx="6397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22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23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48" name="Freeform 24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25"/>
                <p:cNvSpPr/>
                <p:nvPr/>
              </p:nvSpPr>
              <p:spPr>
                <a:xfrm flipV="1">
                  <a:off x="4872960" y="-360"/>
                  <a:ext cx="14148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Freeform 26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1" name="Freeform 27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2" name="Freeform 28"/>
              <p:cNvSpPr/>
              <p:nvPr/>
            </p:nvSpPr>
            <p:spPr>
              <a:xfrm>
                <a:off x="5057640" y="3900240"/>
                <a:ext cx="1552680" cy="527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3" name="Freeform 29"/>
              <p:cNvSpPr/>
              <p:nvPr/>
            </p:nvSpPr>
            <p:spPr>
              <a:xfrm rot="20854800">
                <a:off x="5227560" y="4335120"/>
                <a:ext cx="1120680" cy="1609560"/>
              </a:xfrm>
              <a:prstGeom prst="pie">
                <a:avLst/>
              </a:pr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4" name="Freeform 30"/>
              <p:cNvSpPr/>
              <p:nvPr/>
            </p:nvSpPr>
            <p:spPr>
              <a:xfrm>
                <a:off x="4748040" y="4713120"/>
                <a:ext cx="752760" cy="18478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55" name="Group 31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56" name="Freeform 32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33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34"/>
                <p:cNvSpPr/>
                <p:nvPr/>
              </p:nvSpPr>
              <p:spPr>
                <a:xfrm>
                  <a:off x="5020920" y="4680"/>
                  <a:ext cx="1552320" cy="52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35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36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37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62" name="Freeform 38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39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40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1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42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43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168" name="Freeform 44"/>
                <p:cNvSpPr/>
                <p:nvPr/>
              </p:nvSpPr>
              <p:spPr>
                <a:xfrm>
                  <a:off x="7419960" y="4680"/>
                  <a:ext cx="585720" cy="4145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5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6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7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48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173" name="Freeform 49"/>
                <p:cNvSpPr/>
                <p:nvPr/>
              </p:nvSpPr>
              <p:spPr>
                <a:xfrm>
                  <a:off x="5553000" y="15480"/>
                  <a:ext cx="660240" cy="683568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50"/>
                <p:cNvSpPr/>
                <p:nvPr/>
              </p:nvSpPr>
              <p:spPr>
                <a:xfrm>
                  <a:off x="6040080" y="4680"/>
                  <a:ext cx="297000" cy="6838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51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176" name="Freeform 52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53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54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Freeform 55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0" name="Freeform 56"/>
              <p:cNvSpPr/>
              <p:nvPr/>
            </p:nvSpPr>
            <p:spPr>
              <a:xfrm>
                <a:off x="8793000" y="915840"/>
                <a:ext cx="343080" cy="579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1" name="Freeform 57"/>
              <p:cNvSpPr/>
              <p:nvPr/>
            </p:nvSpPr>
            <p:spPr>
              <a:xfrm>
                <a:off x="8526240" y="1093680"/>
                <a:ext cx="530280" cy="13003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82" name="Group 58"/>
              <p:cNvGrpSpPr/>
              <p:nvPr/>
            </p:nvGrpSpPr>
            <p:grpSpPr>
              <a:xfrm>
                <a:off x="6887520" y="4248000"/>
                <a:ext cx="2044800" cy="1636920"/>
                <a:chOff x="6887520" y="4248000"/>
                <a:chExt cx="2044800" cy="1636920"/>
              </a:xfrm>
            </p:grpSpPr>
            <p:sp>
              <p:nvSpPr>
                <p:cNvPr id="183" name="Freeform 59"/>
                <p:cNvSpPr/>
                <p:nvPr/>
              </p:nvSpPr>
              <p:spPr>
                <a:xfrm flipH="1" rot="21429000">
                  <a:off x="6915240" y="4542840"/>
                  <a:ext cx="787680" cy="11318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60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61"/>
                <p:cNvSpPr/>
                <p:nvPr/>
              </p:nvSpPr>
              <p:spPr>
                <a:xfrm>
                  <a:off x="7693920" y="4584240"/>
                  <a:ext cx="529920" cy="130068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62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187" name="Freeform 63"/>
                <p:cNvSpPr/>
                <p:nvPr/>
              </p:nvSpPr>
              <p:spPr>
                <a:xfrm flipH="1" rot="21429000">
                  <a:off x="2342520" y="5701680"/>
                  <a:ext cx="611280" cy="8762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64"/>
                <p:cNvSpPr/>
                <p:nvPr/>
              </p:nvSpPr>
              <p:spPr>
                <a:xfrm rot="20854800">
                  <a:off x="3207960" y="552708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65"/>
                <p:cNvSpPr/>
                <p:nvPr/>
              </p:nvSpPr>
              <p:spPr>
                <a:xfrm>
                  <a:off x="2947680" y="5733720"/>
                  <a:ext cx="409680" cy="100620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Freeform 66"/>
              <p:cNvSpPr/>
              <p:nvPr/>
            </p:nvSpPr>
            <p:spPr>
              <a:xfrm rot="20854800">
                <a:off x="1295280" y="499104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1" name="Freeform 67"/>
              <p:cNvSpPr/>
              <p:nvPr/>
            </p:nvSpPr>
            <p:spPr>
              <a:xfrm>
                <a:off x="955440" y="5325840"/>
                <a:ext cx="56052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" name="Freeform 68"/>
              <p:cNvSpPr/>
              <p:nvPr/>
            </p:nvSpPr>
            <p:spPr>
              <a:xfrm>
                <a:off x="1141200" y="4684680"/>
                <a:ext cx="1157400" cy="39348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3" name="Freeform 69"/>
              <p:cNvSpPr/>
              <p:nvPr/>
            </p:nvSpPr>
            <p:spPr>
              <a:xfrm>
                <a:off x="-3240" y="5208480"/>
                <a:ext cx="852480" cy="98280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4" name="Freeform 70"/>
              <p:cNvSpPr/>
              <p:nvPr/>
            </p:nvSpPr>
            <p:spPr>
              <a:xfrm>
                <a:off x="-3240" y="4867200"/>
                <a:ext cx="803160" cy="384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5" name="Freeform 71"/>
              <p:cNvSpPr/>
              <p:nvPr/>
            </p:nvSpPr>
            <p:spPr>
              <a:xfrm rot="20854800">
                <a:off x="1284120" y="3960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6" name="Freeform 72"/>
              <p:cNvSpPr/>
              <p:nvPr/>
            </p:nvSpPr>
            <p:spPr>
              <a:xfrm>
                <a:off x="944640" y="374400"/>
                <a:ext cx="56016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7" name="Freeform 73"/>
              <p:cNvSpPr/>
              <p:nvPr/>
            </p:nvSpPr>
            <p:spPr>
              <a:xfrm>
                <a:off x="1055520" y="4680"/>
                <a:ext cx="1397160" cy="120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8" name="Freeform 74"/>
              <p:cNvSpPr/>
              <p:nvPr/>
            </p:nvSpPr>
            <p:spPr>
              <a:xfrm>
                <a:off x="-25560" y="260280"/>
                <a:ext cx="863640" cy="100656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9" name="Freeform 75"/>
              <p:cNvSpPr/>
              <p:nvPr/>
            </p:nvSpPr>
            <p:spPr>
              <a:xfrm>
                <a:off x="-3240" y="4680"/>
                <a:ext cx="792000" cy="295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00" name="Group 76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201" name="Freeform 77"/>
                <p:cNvSpPr/>
                <p:nvPr/>
              </p:nvSpPr>
              <p:spPr>
                <a:xfrm flipH="1" rot="21429000">
                  <a:off x="2353320" y="4098600"/>
                  <a:ext cx="611280" cy="8762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78"/>
                <p:cNvSpPr/>
                <p:nvPr/>
              </p:nvSpPr>
              <p:spPr>
                <a:xfrm rot="20854800">
                  <a:off x="3218760" y="392400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79"/>
                <p:cNvSpPr/>
                <p:nvPr/>
              </p:nvSpPr>
              <p:spPr>
                <a:xfrm>
                  <a:off x="2958480" y="4130640"/>
                  <a:ext cx="409680" cy="100620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80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205" name="Freeform 81"/>
                <p:cNvSpPr/>
                <p:nvPr/>
              </p:nvSpPr>
              <p:spPr>
                <a:xfrm flipH="1" rot="21429000">
                  <a:off x="2377440" y="321840"/>
                  <a:ext cx="611280" cy="8762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82"/>
                <p:cNvSpPr/>
                <p:nvPr/>
              </p:nvSpPr>
              <p:spPr>
                <a:xfrm rot="20854800">
                  <a:off x="3242880" y="14724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83"/>
                <p:cNvSpPr/>
                <p:nvPr/>
              </p:nvSpPr>
              <p:spPr>
                <a:xfrm>
                  <a:off x="2982600" y="353880"/>
                  <a:ext cx="409680" cy="100620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Freeform 84"/>
              <p:cNvSpPr/>
              <p:nvPr/>
            </p:nvSpPr>
            <p:spPr>
              <a:xfrm>
                <a:off x="4755960" y="5686200"/>
                <a:ext cx="1076400" cy="11718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9" name="Freeform 85"/>
              <p:cNvSpPr/>
              <p:nvPr/>
            </p:nvSpPr>
            <p:spPr>
              <a:xfrm rot="20854800">
                <a:off x="6339960" y="5365800"/>
                <a:ext cx="1157400" cy="1662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0" name="Freeform 86"/>
              <p:cNvSpPr/>
              <p:nvPr/>
            </p:nvSpPr>
            <p:spPr>
              <a:xfrm>
                <a:off x="5846760" y="5756040"/>
                <a:ext cx="749160" cy="11527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11" name="Group 87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212" name="Freeform 88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89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90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91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92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93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218" name="Freeform 94"/>
                <p:cNvSpPr/>
                <p:nvPr/>
              </p:nvSpPr>
              <p:spPr>
                <a:xfrm>
                  <a:off x="23652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95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Rectangle 96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1" name="Rectangle 97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A141-A22D-49A7-B157-2B5161E11361}" type="slidenum">
              <a:rPr b="0" lang="en-US" sz="1200" spc="-1" strike="noStrike">
                <a:solidFill>
                  <a:srgbClr val="333333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矩形 3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87854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566360" y="457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黑体"/>
              </a:rPr>
              <a:t>材料阅读与分析：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5640" y="1268280"/>
            <a:ext cx="775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材料一：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变法上谕，基本上反映了维新派的愿望和要求，政治上允许一定的言论自由，经济上制定了一些有利于民族资本主义发展的政策，文化上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人教版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历史上重大改革回眸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5640" y="393372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材料二：康有人等人想以日本明治维新的要义为蓝图，在中国推行变法。但是没有认识到日本与中国的国情不同，并没有掌握明治维新真正“要义”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戊戌维新与明治维新的比较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1"/>
          <p:cNvSpPr/>
          <p:nvPr/>
        </p:nvSpPr>
        <p:spPr>
          <a:xfrm>
            <a:off x="-714240" y="0"/>
            <a:ext cx="47149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35" name="矩形 2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730760" cy="2431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gif041"/>
          <p:cNvPicPr/>
          <p:nvPr/>
        </p:nvPicPr>
        <p:blipFill>
          <a:blip r:embed="rId2"/>
          <a:stretch/>
        </p:blipFill>
        <p:spPr>
          <a:xfrm>
            <a:off x="2843280" y="5089680"/>
            <a:ext cx="3600360" cy="14000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50920" y="2565360"/>
            <a:ext cx="8713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结合材料及变法内容、特点分析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们应该如何客观评价这场变法运动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566360" y="457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黑体"/>
              </a:rPr>
              <a:t>材料阅读与分析：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1268280"/>
            <a:ext cx="775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材料一：政变之总原因，盖出于光绪帝之怯懦，无权无勇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 一有异动，则随其喜怒而置焉！                      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萧一山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清代通史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11280" y="2852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材料二：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… 而康梁诸人不知环境之阻力，偏于理想，多招忌妒，终则一无所成，其人固无经验之书生也。   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陈恭禄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中国近代史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5640" y="4292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材料三：维新运动只是少数人的运动。他们不仅不接近广大的劳动群众，得不到广大群众的支持，只依靠载湉 这样一个无权无力的皇帝下命令。        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荣孟源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中国近百年革命史略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"/>
          <p:cNvSpPr/>
          <p:nvPr/>
        </p:nvSpPr>
        <p:spPr>
          <a:xfrm>
            <a:off x="-714240" y="0"/>
            <a:ext cx="47149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43" name="矩形 2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730760" cy="2431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gif041"/>
          <p:cNvPicPr/>
          <p:nvPr/>
        </p:nvPicPr>
        <p:blipFill>
          <a:blip r:embed="rId2"/>
          <a:stretch/>
        </p:blipFill>
        <p:spPr>
          <a:xfrm>
            <a:off x="2700360" y="5329080"/>
            <a:ext cx="3024000" cy="1154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539640" y="2349360"/>
            <a:ext cx="78868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结合材料及所学知识分析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戊戌变法为什么会失败了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模板5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"/>
          <p:cNvSpPr/>
          <p:nvPr/>
        </p:nvSpPr>
        <p:spPr>
          <a:xfrm>
            <a:off x="1071720" y="355680"/>
            <a:ext cx="61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840084"/>
                </a:solidFill>
                <a:latin typeface="Arial"/>
                <a:ea typeface="隶书"/>
              </a:rPr>
              <a:t>创新与探究：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838080" y="167652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9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世纪下半期，日本和中国先后发生了明治维新和戊戌变法，结果日本成功了，晚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30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年的中国却没有成功，为什么？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49" name="Picture 6" descr="五角星3"/>
          <p:cNvPicPr/>
          <p:nvPr/>
        </p:nvPicPr>
        <p:blipFill>
          <a:blip r:embed="rId2"/>
          <a:stretch/>
        </p:blipFill>
        <p:spPr>
          <a:xfrm>
            <a:off x="0" y="426960"/>
            <a:ext cx="205740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250920" y="1557360"/>
          <a:ext cx="8512200" cy="4608360"/>
        </p:xfrm>
        <a:graphic>
          <a:graphicData uri="http://schemas.openxmlformats.org/drawingml/2006/table">
            <a:tbl>
              <a:tblPr/>
              <a:tblGrid>
                <a:gridCol w="2808360"/>
                <a:gridCol w="2535120"/>
                <a:gridCol w="3168720"/>
              </a:tblGrid>
              <a:tr h="110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迷你简启体"/>
                          <a:ea typeface="迷你简启体"/>
                        </a:rPr>
                        <a:t>项目</a:t>
                      </a:r>
                      <a:endParaRPr b="0" lang="en-US" sz="32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425032"/>
                          </a:solidFill>
                          <a:latin typeface="迷你简启体"/>
                          <a:ea typeface="迷你简启体"/>
                        </a:rPr>
                        <a:t>明治维新</a:t>
                      </a:r>
                      <a:endParaRPr b="0" lang="en-US" sz="32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迷你简启体"/>
                          <a:ea typeface="迷你简启体"/>
                        </a:rPr>
                        <a:t>成功</a:t>
                      </a:r>
                      <a:endParaRPr b="0" lang="en-US" sz="32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425032"/>
                          </a:solidFill>
                          <a:latin typeface="迷你简启体"/>
                          <a:ea typeface="迷你简启体"/>
                        </a:rPr>
                        <a:t>戊戌变法</a:t>
                      </a:r>
                      <a:endParaRPr b="0" lang="en-US" sz="32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迷你简启体"/>
                          <a:ea typeface="迷你简启体"/>
                        </a:rPr>
                        <a:t>失败</a:t>
                      </a:r>
                      <a:endParaRPr b="0" lang="en-US" sz="32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</a:tr>
              <a:tr h="81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迷你简启体"/>
                          <a:ea typeface="迷你简启体"/>
                        </a:rPr>
                        <a:t>社会背景</a:t>
                      </a:r>
                      <a:endParaRPr b="0" lang="en-US" sz="32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迷你简启体"/>
                          <a:ea typeface="迷你简启体"/>
                        </a:rPr>
                        <a:t>领导力量</a:t>
                      </a:r>
                      <a:endParaRPr b="0" lang="en-US" sz="32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5032"/>
                          </a:solidFill>
                          <a:latin typeface="迷你简启体"/>
                          <a:ea typeface="迷你简启体"/>
                        </a:rPr>
                        <a:t>   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5032"/>
                          </a:solidFill>
                          <a:latin typeface="迷你简启体"/>
                          <a:ea typeface="迷你简启体"/>
                        </a:rPr>
                        <a:t>   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迷你简启体"/>
                          <a:ea typeface="迷你简启体"/>
                        </a:rPr>
                        <a:t>具体措施</a:t>
                      </a:r>
                      <a:endParaRPr b="0" lang="en-US" sz="32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5032"/>
                          </a:solidFill>
                          <a:latin typeface="迷你简启体"/>
                          <a:ea typeface="迷你简启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25032"/>
                          </a:solidFill>
                          <a:latin typeface="迷你简启体"/>
                          <a:ea typeface="迷你简启体"/>
                        </a:rPr>
                        <a:t>   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迷你简启体"/>
                          <a:ea typeface="迷你简启体"/>
                        </a:rPr>
                        <a:t>国际环境</a:t>
                      </a:r>
                      <a:endParaRPr b="0" lang="en-US" sz="32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</a:tr>
              <a:tr h="81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迷你简启体"/>
                          <a:ea typeface="迷你简启体"/>
                        </a:rPr>
                        <a:t>思想文化传统</a:t>
                      </a:r>
                      <a:endParaRPr b="0" lang="en-US" sz="32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</a:tr>
            </a:tbl>
          </a:graphicData>
        </a:graphic>
      </p:graphicFrame>
      <p:sp>
        <p:nvSpPr>
          <p:cNvPr id="351" name="Text Box 29"/>
          <p:cNvSpPr/>
          <p:nvPr/>
        </p:nvSpPr>
        <p:spPr>
          <a:xfrm>
            <a:off x="4952880" y="144792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迷你简启体"/>
                <a:ea typeface="迷你简启体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52" name="矩形 11" descr=""/>
          <p:cNvPicPr/>
          <p:nvPr/>
        </p:nvPicPr>
        <p:blipFill>
          <a:blip r:embed="rId1"/>
          <a:stretch/>
        </p:blipFill>
        <p:spPr>
          <a:xfrm>
            <a:off x="539640" y="0"/>
            <a:ext cx="80708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94160" y="196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黑体"/>
                <a:ea typeface="黑体"/>
              </a:rPr>
              <a:t>维新时期的遗产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52280" y="457200"/>
            <a:ext cx="8763120" cy="6184800"/>
            <a:chOff x="152280" y="457200"/>
            <a:chExt cx="8763120" cy="6184800"/>
          </a:xfrm>
        </p:grpSpPr>
        <p:pic>
          <p:nvPicPr>
            <p:cNvPr id="355" name="" descr=""/>
            <p:cNvPicPr/>
            <p:nvPr/>
          </p:nvPicPr>
          <p:blipFill>
            <a:blip r:embed="rId1"/>
            <a:stretch/>
          </p:blipFill>
          <p:spPr>
            <a:xfrm>
              <a:off x="4724280" y="457200"/>
              <a:ext cx="4191120" cy="26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2"/>
            <a:stretch/>
          </p:blipFill>
          <p:spPr>
            <a:xfrm>
              <a:off x="152280" y="990720"/>
              <a:ext cx="306252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3"/>
            <a:stretch/>
          </p:blipFill>
          <p:spPr>
            <a:xfrm>
              <a:off x="3429000" y="3279600"/>
              <a:ext cx="5486400" cy="33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486960" y="1295280"/>
              <a:ext cx="122328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5eeda"/>
                  </a:solidFill>
                  <a:latin typeface="Times New Roman"/>
                  <a:ea typeface="华文新魏"/>
                </a:rPr>
                <a:t>        </a:t>
              </a:r>
              <a:r>
                <a:rPr b="0" lang="zh-CN" sz="28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奏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定大学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堂章程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(1903)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4360" y="43578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京师大学堂牌匾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85120" y="60199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京师大学堂旧址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794160" y="196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黑体"/>
                <a:ea typeface="黑体"/>
              </a:rPr>
              <a:t>维新时期的遗产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52280" y="152280"/>
            <a:ext cx="8839440" cy="6629400"/>
            <a:chOff x="152280" y="152280"/>
            <a:chExt cx="8839440" cy="662940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52280" y="914400"/>
              <a:ext cx="5486400" cy="36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556280" y="454176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京师大学堂的藏书阁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>
              <a:off x="6553080" y="152280"/>
              <a:ext cx="2432160" cy="35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5947920" y="1598040"/>
              <a:ext cx="606960" cy="20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北京大学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7" name="" descr=""/>
            <p:cNvPicPr/>
            <p:nvPr/>
          </p:nvPicPr>
          <p:blipFill>
            <a:blip r:embed="rId3"/>
            <a:stretch/>
          </p:blipFill>
          <p:spPr>
            <a:xfrm>
              <a:off x="4871880" y="3855960"/>
              <a:ext cx="411984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135440" y="6095880"/>
              <a:ext cx="289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时务学堂教习</a:t>
              </a:r>
              <a:r>
                <a:rPr b="1" lang="zh-CN" sz="2400" spc="-1" strike="noStrike">
                  <a:solidFill>
                    <a:srgbClr val="faf400"/>
                  </a:solidFill>
                  <a:latin typeface="Times New Roman"/>
                </a:rPr>
                <a:t>（</a:t>
              </a:r>
              <a:r>
                <a:rPr b="0" lang="zh-CN" sz="28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右二谭嗣同</a:t>
              </a:r>
              <a:r>
                <a:rPr b="1" lang="zh-CN" sz="2400" spc="-1" strike="noStrike">
                  <a:solidFill>
                    <a:srgbClr val="faf4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794160" y="196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黑体"/>
                <a:ea typeface="黑体"/>
              </a:rPr>
              <a:t>维新时期的遗产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228600" y="533520"/>
            <a:ext cx="8686800" cy="6172200"/>
            <a:chOff x="228600" y="533520"/>
            <a:chExt cx="8686800" cy="6172200"/>
          </a:xfrm>
        </p:grpSpPr>
        <p:pic>
          <p:nvPicPr>
            <p:cNvPr id="371" name="" descr=""/>
            <p:cNvPicPr/>
            <p:nvPr/>
          </p:nvPicPr>
          <p:blipFill>
            <a:blip r:embed="rId1">
              <a:lum contrast="20000"/>
            </a:blip>
            <a:stretch/>
          </p:blipFill>
          <p:spPr>
            <a:xfrm>
              <a:off x="5181480" y="533520"/>
              <a:ext cx="373392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6604200" y="3124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旧式私塾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2"/>
            <a:stretch/>
          </p:blipFill>
          <p:spPr>
            <a:xfrm>
              <a:off x="3581280" y="4038480"/>
              <a:ext cx="533412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3"/>
            <a:stretch/>
          </p:blipFill>
          <p:spPr>
            <a:xfrm>
              <a:off x="228600" y="914400"/>
              <a:ext cx="4800600" cy="29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750240" y="3882960"/>
              <a:ext cx="2289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        </a:t>
              </a:r>
              <a:r>
                <a:rPr b="0" lang="zh-CN" sz="28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北洋师范女学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堂成立纪念。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0880" y="5695920"/>
              <a:ext cx="312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        </a:t>
              </a:r>
              <a:r>
                <a:rPr b="0" lang="zh-CN" sz="24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戊戌变法时期维新派的报刊和著述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794160" y="196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黑体"/>
                <a:ea typeface="黑体"/>
              </a:rPr>
              <a:t>维新时期的遗产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28600" y="304920"/>
            <a:ext cx="8686800" cy="6315120"/>
            <a:chOff x="228600" y="304920"/>
            <a:chExt cx="8686800" cy="6315120"/>
          </a:xfrm>
        </p:grpSpPr>
        <p:sp>
          <p:nvSpPr>
            <p:cNvPr id="379" name=""/>
            <p:cNvSpPr/>
            <p:nvPr/>
          </p:nvSpPr>
          <p:spPr>
            <a:xfrm>
              <a:off x="4944600" y="6019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缠足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5770440" y="304920"/>
              <a:ext cx="314496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"/>
            <a:stretch/>
          </p:blipFill>
          <p:spPr>
            <a:xfrm>
              <a:off x="5791320" y="4724280"/>
              <a:ext cx="3047760" cy="18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3"/>
            <a:stretch/>
          </p:blipFill>
          <p:spPr>
            <a:xfrm>
              <a:off x="228600" y="1233360"/>
              <a:ext cx="5105520" cy="41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6601680" y="4052880"/>
              <a:ext cx="158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“</a:t>
              </a:r>
              <a:r>
                <a:rPr b="0" lang="zh-CN" sz="28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天足会”奖章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65040" y="5424480"/>
              <a:ext cx="299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af400"/>
                  </a:solidFill>
                  <a:latin typeface="Times New Roman"/>
                  <a:ea typeface="华文新魏"/>
                </a:rPr>
                <a:t>梁启超等创办的“经正女学堂”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684360" y="249228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会原因：帝国主义瓜分中国，民族危机严重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巨额赔款造成财政危机，激化政治危机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经济基础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末民族资本主义有了初步发展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阶级基础：民族资产阶级力量壮大并登上政治舞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想基础：早期维新思想产生及康梁进一步发展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基础：强学会、保国会等政治团体的成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条件：光绪帝支持；康有为、梁启超个人努力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际环境：资本主义发展是当时潮流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92000" y="105228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黑体"/>
                <a:ea typeface="黑体"/>
              </a:rPr>
              <a:t>戊戌变法的背景</a:t>
            </a:r>
            <a:endParaRPr b="0" lang="en-US" sz="54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73" name="Picture 5" descr="3232gif053"/>
          <p:cNvPicPr/>
          <p:nvPr/>
        </p:nvPicPr>
        <p:blipFill>
          <a:blip r:embed="rId1"/>
          <a:stretch/>
        </p:blipFill>
        <p:spPr>
          <a:xfrm>
            <a:off x="8294760" y="6143760"/>
            <a:ext cx="849240" cy="714240"/>
          </a:xfrm>
          <a:prstGeom prst="rect">
            <a:avLst/>
          </a:prstGeom>
          <a:ln w="0">
            <a:noFill/>
          </a:ln>
        </p:spPr>
      </p:pic>
      <p:pic>
        <p:nvPicPr>
          <p:cNvPr id="274" name="矩形 4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177336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2"/>
          <p:cNvSpPr/>
          <p:nvPr/>
        </p:nvSpPr>
        <p:spPr>
          <a:xfrm>
            <a:off x="684360" y="249228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会原因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经济基础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阶级基础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想基础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基础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条件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际环境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7" name="Picture 3" descr="00080601"/>
          <p:cNvPicPr/>
          <p:nvPr/>
        </p:nvPicPr>
        <p:blipFill>
          <a:blip r:embed="rId1"/>
          <a:srcRect l="0" t="0" r="-29" b="-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671240" y="2184840"/>
            <a:ext cx="667800" cy="33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国时局图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1628640"/>
            <a:ext cx="9144000" cy="5465520"/>
          </a:xfrm>
          <a:prstGeom prst="rect">
            <a:avLst/>
          </a:prstGeom>
          <a:solidFill>
            <a:srgbClr val="e5eed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4762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9040"/>
                </a:solidFill>
                <a:latin typeface="华文行楷"/>
                <a:ea typeface="华文行楷"/>
              </a:rPr>
              <a:t>   </a:t>
            </a:r>
            <a:r>
              <a:rPr b="1" lang="zh-CN" sz="2800" spc="-1" strike="noStrike">
                <a:solidFill>
                  <a:srgbClr val="b89040"/>
                </a:solidFill>
                <a:latin typeface="华文行楷"/>
                <a:ea typeface="华文行楷"/>
              </a:rPr>
              <a:t>学习与探究：</a:t>
            </a:r>
            <a:r>
              <a:rPr b="1" lang="en-US" sz="2800" spc="-1" strike="noStrike">
                <a:solidFill>
                  <a:srgbClr val="b89040"/>
                </a:solidFill>
                <a:latin typeface="华文行楷"/>
                <a:ea typeface="华文行楷"/>
              </a:rPr>
              <a:t>1897</a:t>
            </a:r>
            <a:r>
              <a:rPr b="1" lang="zh-CN" sz="2800" spc="-1" strike="noStrike">
                <a:solidFill>
                  <a:srgbClr val="b89040"/>
                </a:solidFill>
                <a:latin typeface="华文行楷"/>
                <a:ea typeface="华文行楷"/>
              </a:rPr>
              <a:t>年后维新派由理论宣传转入政治实践的原因和表现有哪些？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24000" y="1859040"/>
            <a:ext cx="71640" cy="1512720"/>
          </a:xfrm>
          <a:custGeom>
            <a:avLst/>
            <a:gdLst>
              <a:gd name="textAreaLeft" fmla="*/ 45720 w 71640"/>
              <a:gd name="textAreaRight" fmla="*/ 72000 w 7164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68360" y="17002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中国面临被列强瓜分的危险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68360" y="227664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康有为等维新派人士的宣传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5280" y="2219400"/>
            <a:ext cx="1873080" cy="2737440"/>
            <a:chOff x="395280" y="2219400"/>
            <a:chExt cx="1873080" cy="2737440"/>
          </a:xfrm>
        </p:grpSpPr>
        <p:sp>
          <p:nvSpPr>
            <p:cNvPr id="285" name=""/>
            <p:cNvSpPr/>
            <p:nvPr/>
          </p:nvSpPr>
          <p:spPr>
            <a:xfrm>
              <a:off x="395280" y="2219400"/>
              <a:ext cx="18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1.</a:t>
              </a:r>
              <a:r>
                <a:rPr b="1" lang="zh-CN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原因</a:t>
              </a:r>
              <a:endParaRPr b="0" lang="en-US" sz="32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8360" y="4375440"/>
              <a:ext cx="180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2.</a:t>
              </a:r>
              <a:r>
                <a:rPr b="1" lang="zh-CN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表现</a:t>
              </a:r>
              <a:endParaRPr b="0" lang="en-US" sz="32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124000" y="3803760"/>
            <a:ext cx="71640" cy="1800000"/>
          </a:xfrm>
          <a:custGeom>
            <a:avLst/>
            <a:gdLst>
              <a:gd name="textAreaLeft" fmla="*/ 45720 w 71640"/>
              <a:gd name="textAreaRight" fmla="*/ 72000 w 7164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68360" y="35877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康有为上清帝第五、第六书痛陈变法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68360" y="41641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康有为向光绪进呈了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日本变政考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俄彼得变政记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68360" y="515628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康有为发起组织了保国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68360" y="292428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有爱国心的官员的推动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5734080"/>
            <a:ext cx="820872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1898</a:t>
            </a:r>
            <a:r>
              <a:rPr b="1" lang="zh-CN" sz="2800" spc="-1" strike="noStrike">
                <a:solidFill>
                  <a:srgbClr val="333333"/>
                </a:solidFill>
                <a:latin typeface="华文中宋"/>
                <a:ea typeface="华文中宋"/>
              </a:rPr>
              <a:t>年，在各种改革力量的推动下，维新变法形势进一步高涨，掀起“百日维新”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03280" y="2997360"/>
            <a:ext cx="6480360" cy="520560"/>
          </a:xfrm>
          <a:prstGeom prst="rect">
            <a:avLst/>
          </a:prstGeom>
          <a:solidFill>
            <a:srgbClr val="e5ee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皇上与诸臣求为长安布衣而不可得矣”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424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5032"/>
                </a:solidFill>
                <a:latin typeface="Palatino Linotype"/>
                <a:ea typeface="黑体"/>
              </a:rPr>
              <a:t>材料分析与探究：</a:t>
            </a:r>
            <a:endParaRPr b="0" lang="en-US" sz="36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材料一：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1898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年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6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月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11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日，光绪帝颁布明定国是上谕：“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……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不甘作亡国之君。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……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数年以来，中外臣工讲求时务，多主变法自强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……”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材料二：若夫美、法民政，英、德宪法，地远俗殊，变久迹绝，臣故请皇上以俄大彼得之心为心法，以日本明治之敢为政法也。然求其时地不远，教俗略同，成效已彰</a:t>
            </a:r>
            <a:r>
              <a:rPr b="1" lang="en-US" sz="3200" spc="-1" strike="noStrike">
                <a:solidFill>
                  <a:srgbClr val="425032"/>
                </a:solidFill>
                <a:latin typeface="Palatino Linotype"/>
              </a:rPr>
              <a:t>……</a:t>
            </a:r>
            <a:r>
              <a:rPr b="1" lang="zh-CN" sz="3200" spc="-1" strike="noStrike">
                <a:solidFill>
                  <a:srgbClr val="425032"/>
                </a:solidFill>
                <a:latin typeface="Palatino Linotype"/>
              </a:rPr>
              <a:t>则莫如取鉴日本之维新矣。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4869000"/>
            <a:ext cx="9144000" cy="1572120"/>
          </a:xfrm>
          <a:prstGeom prst="rect">
            <a:avLst/>
          </a:prstGeom>
          <a:solidFill>
            <a:srgbClr val="e5eed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1268280"/>
            <a:ext cx="9144000" cy="2128320"/>
          </a:xfrm>
          <a:prstGeom prst="rect">
            <a:avLst/>
          </a:prstGeom>
          <a:solidFill>
            <a:srgbClr val="e5eed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1341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其爱国意识使光绪帝不甘做亡国之君；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光绪帝亲政后并无实权，企图借维新变法从慈禧太后手中夺权，巩固自己的统治地位和权力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47628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89040"/>
                </a:solidFill>
                <a:latin typeface="黑体"/>
                <a:ea typeface="黑体"/>
              </a:rPr>
              <a:t>思考：光绪帝为什么会支持维新变法？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48690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俄国和日本；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3645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89040"/>
                </a:solidFill>
                <a:latin typeface="黑体"/>
                <a:ea typeface="黑体"/>
              </a:rPr>
              <a:t>思考：康有为会要光绪帝借鉴哪些国家的改革成效而颁行新政？为什么？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5300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时地不远，教俗略同；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保留君主，实行资产阶级君主立宪制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24000" y="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89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日颁布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定国是诏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宣布变法，因为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89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是农历戊戌年，史称戊戌变法；这次变法历时共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0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天，又称 “百日维新”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rcRect l="0" t="0" r="-41" b="4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250920" y="333360"/>
          <a:ext cx="8642160" cy="4232160"/>
        </p:xfrm>
        <a:graphic>
          <a:graphicData uri="http://schemas.openxmlformats.org/drawingml/2006/table">
            <a:tbl>
              <a:tblPr/>
              <a:tblGrid>
                <a:gridCol w="1225440"/>
                <a:gridCol w="2664000"/>
                <a:gridCol w="475272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25032"/>
                          </a:solidFill>
                          <a:latin typeface="Palatino Linotype"/>
                          <a:ea typeface="楷体_GB2312"/>
                        </a:rPr>
                        <a:t>领域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25032"/>
                          </a:solidFill>
                          <a:latin typeface="Palatino Linotype"/>
                          <a:ea typeface="楷体_GB2312"/>
                        </a:rPr>
                        <a:t>主要内容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5eeda"/>
                    </a:solidFill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540720" y="1182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政治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0720" y="2206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经济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9440" y="306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文教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944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军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79640" y="97164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上书言事，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精简机构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76360" y="21337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鼓励发展工商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63640" y="285264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改革科举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废除八股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19280" y="3933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建立新式军队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11640" y="90792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给民族资产阶级提供了参与政治的可能性，初步动摇了封建统治秩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11640" y="2205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有利于中国民族资本主义的发展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1164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有利于先进科学文化的传播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6000" y="3860640"/>
            <a:ext cx="43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有利于增强了军事实力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3840" y="5013360"/>
            <a:ext cx="87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思考：以上政治法令与维新派进行维新思想准备时的主张有哪些明显差别？为什么会出现这些差异？        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4653000"/>
            <a:ext cx="8748720" cy="520560"/>
          </a:xfrm>
          <a:prstGeom prst="rect">
            <a:avLst/>
          </a:prstGeom>
          <a:solidFill>
            <a:srgbClr val="e5e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没有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涉及维新派提出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行宪法，大开国会”、设立制度局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等政治主张（局限性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5280" y="5589720"/>
            <a:ext cx="8388360" cy="947160"/>
          </a:xfrm>
          <a:prstGeom prst="rect">
            <a:avLst/>
          </a:prstGeom>
          <a:solidFill>
            <a:srgbClr val="e5e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想减少阻力；也说明维新派完全把希望寄托在光绪帝的“君权”之上，反映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维新派的阶级局限性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34880" y="38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意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内容占位符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9396360" cy="417672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49"/>
          <p:cNvGrpSpPr/>
          <p:nvPr/>
        </p:nvGrpSpPr>
        <p:grpSpPr>
          <a:xfrm>
            <a:off x="4427640" y="4916520"/>
            <a:ext cx="4716000" cy="1941120"/>
            <a:chOff x="4427640" y="4916520"/>
            <a:chExt cx="4716000" cy="1941120"/>
          </a:xfrm>
        </p:grpSpPr>
        <p:pic>
          <p:nvPicPr>
            <p:cNvPr id="324" name="Picture 50" descr="J0095744"/>
            <p:cNvPicPr/>
            <p:nvPr/>
          </p:nvPicPr>
          <p:blipFill>
            <a:blip r:embed="rId2"/>
            <a:stretch/>
          </p:blipFill>
          <p:spPr>
            <a:xfrm>
              <a:off x="4427640" y="4916520"/>
              <a:ext cx="3934440" cy="193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5" name="Group 51"/>
            <p:cNvGrpSpPr/>
            <p:nvPr/>
          </p:nvGrpSpPr>
          <p:grpSpPr>
            <a:xfrm>
              <a:off x="6254640" y="5282640"/>
              <a:ext cx="2648520" cy="613440"/>
              <a:chOff x="6254640" y="5282640"/>
              <a:chExt cx="2648520" cy="613440"/>
            </a:xfrm>
          </p:grpSpPr>
          <p:sp>
            <p:nvSpPr>
              <p:cNvPr id="326" name="Oval 52"/>
              <p:cNvSpPr/>
              <p:nvPr/>
            </p:nvSpPr>
            <p:spPr>
              <a:xfrm>
                <a:off x="6254640" y="5282640"/>
                <a:ext cx="661680" cy="613440"/>
              </a:xfrm>
              <a:prstGeom prst="ellipse">
                <a:avLst/>
              </a:prstGeom>
              <a:solidFill>
                <a:srgbClr val="b890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e5eeda"/>
                    </a:solidFill>
                    <a:latin typeface="Times New Roman"/>
                    <a:ea typeface="幼圆"/>
                  </a:rPr>
                  <a:t>能</a:t>
                </a: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7" name="Oval 53"/>
              <p:cNvSpPr/>
              <p:nvPr/>
            </p:nvSpPr>
            <p:spPr>
              <a:xfrm>
                <a:off x="6916320" y="5282640"/>
                <a:ext cx="661680" cy="613440"/>
              </a:xfrm>
              <a:prstGeom prst="ellipse">
                <a:avLst/>
              </a:prstGeom>
              <a:solidFill>
                <a:srgbClr val="b890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e5eeda"/>
                    </a:solidFill>
                    <a:latin typeface="Times New Roman"/>
                    <a:ea typeface="幼圆"/>
                  </a:rPr>
                  <a:t>力</a:t>
                </a: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8" name="Oval 54"/>
              <p:cNvSpPr/>
              <p:nvPr/>
            </p:nvSpPr>
            <p:spPr>
              <a:xfrm>
                <a:off x="7579800" y="5282640"/>
                <a:ext cx="661680" cy="613440"/>
              </a:xfrm>
              <a:prstGeom prst="ellipse">
                <a:avLst/>
              </a:prstGeom>
              <a:solidFill>
                <a:srgbClr val="b890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e5eeda"/>
                    </a:solidFill>
                    <a:latin typeface="Arial"/>
                    <a:ea typeface="幼圆"/>
                  </a:rPr>
                  <a:t>提</a:t>
                </a: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9" name="Oval 55"/>
              <p:cNvSpPr/>
              <p:nvPr/>
            </p:nvSpPr>
            <p:spPr>
              <a:xfrm>
                <a:off x="8241480" y="5282640"/>
                <a:ext cx="661680" cy="591120"/>
              </a:xfrm>
              <a:prstGeom prst="ellipse">
                <a:avLst/>
              </a:prstGeom>
              <a:solidFill>
                <a:srgbClr val="b890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e5eeda"/>
                    </a:solidFill>
                    <a:latin typeface="Arial"/>
                    <a:ea typeface="幼圆"/>
                  </a:rPr>
                  <a:t>升</a:t>
                </a: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pic>
          <p:nvPicPr>
            <p:cNvPr id="330" name="Picture 56" descr="AG00218_"/>
            <p:cNvPicPr/>
            <p:nvPr/>
          </p:nvPicPr>
          <p:blipFill>
            <a:blip r:embed="rId3"/>
            <a:stretch/>
          </p:blipFill>
          <p:spPr>
            <a:xfrm>
              <a:off x="7899480" y="5746680"/>
              <a:ext cx="1244160" cy="111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01:06:16Z</dcterms:created>
  <dc:creator>莲山课件http://www.5ykj.com/莲山课件http://www.5ykj.com/</dc:creator>
  <dc:description>莲山课件http://www.5ykj.com/</dc:description>
  <cp:keywords>莲山课件http://www.5ykj.com/</cp:keywords>
  <dc:language>en-US</dc:language>
  <cp:lastModifiedBy>雨林木风</cp:lastModifiedBy>
  <dcterms:modified xsi:type="dcterms:W3CDTF">2012-02-01T07:31:11Z</dcterms:modified>
  <cp:revision>0</cp:revision>
  <dc:subject>莲山课件http://www.5ykj.com/</dc:subject>
  <dc:title>莲山课件http://www.5ykj.com/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14000000000001024120</vt:lpwstr>
  </property>
</Properties>
</file>